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63E-2F43-4383-9E72-8668056F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DDE-6041-40D1-850A-E4BFEA75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78E1D-4F31-4C3A-B22D-2C06AE55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6566-BA71-4CC3-81F7-C6718E7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BC6AF-03F2-4721-AB70-E3750FBD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96A97-7499-4C6C-8FC3-2E1D5477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2F4E9-A990-4FC7-89B6-0CB124A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AE331-61C3-425B-9369-9EAC105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0D8FA-0184-473A-B8B3-F91535F7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60BB-0E0B-465E-BABD-BDF3E7D2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98234-7970-4F55-8EDE-43F67E6E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D9C1D-6EC6-4EE5-8516-FC995E41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AC-CDA6-487C-9DFF-B21E4112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A78ED-D28A-425D-9FBD-2E6A65D3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7C6B-0F35-40D3-9179-E948C8C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7A508-02FB-4D09-9284-F1959BE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4FE78-273F-4E55-8490-8B6D672D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8237D-DC7D-417A-9D05-5CB1B8F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4487-1A5A-4ECF-82EC-EB84388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E5BE4-420F-49B5-9E5C-87DB0B69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BFE13-5FC2-4525-AB97-408E5B3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DD239-43F5-49AC-93FE-95F2A47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2DF71-BFDE-40C6-B34E-F33334C7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9A1-AB53-4169-810C-1E586454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B26DC-E5A6-48FC-A7C7-F005ADE5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991E-700C-4697-B404-9240C06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A4B7-8546-47C2-9A25-C97733EB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C1EF-6F78-4B35-A4A8-1D9E237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DBE8-2B64-4791-B069-66BFC25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E4E61-FC38-4888-B596-4B7DD5A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55BF-23E6-4CDD-BE7D-A1EFFD95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82D82-D7AD-42F0-B41A-38D02E81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50CDA-240E-4260-A1CD-777BA515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F88EC-DD6D-48FB-AC1D-270D714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AC2C-5455-45B7-8EC9-BB112B3B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D0F40-7184-441F-A2E2-67D4AB3C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61A5C-3EEF-4494-AD30-9FE65E70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796E-6B61-42A0-998B-C7157330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81CA3-40AD-4CB7-94F7-CE452CE8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5948A-3B10-4055-8757-A10C175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B95F5-197D-4D64-A6DC-465F2645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33ACD-61D0-4D26-89F5-B6E91C1C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ACF39-9B7F-4ED9-A4E0-A222BF92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3D04F-8CFD-4B20-8293-071CA2F5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7D23E-A71E-4652-9544-0DF8C2D2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A35-BD6C-4E23-926B-16658E3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A894-7C32-4268-9279-7A36ED3B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83747-73A9-472D-B340-BF3E6FD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108CB-2334-4339-B0AC-07D8F9FE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703EB-5FC3-4899-8DDF-E9EDB81D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8AE28-1A0D-4762-9306-BE00695D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BF78D-688A-4A03-90F0-39B03C6C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DA2B6-F0D4-4556-9E27-1FD83B5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F32A7-7333-4C40-B4B6-84FDB2E7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0901D-1718-4D86-8795-317A811B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53298-B5D7-406F-9AE8-1D9106BF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CF0A-BFE2-4DC1-AF90-BE44CB08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3E25C-52F8-4817-83B2-C89CD311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DB4C8-35D9-48E2-BC82-58170C6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FF9F8-77EA-4D5C-9EDA-08E6D85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22922-C3B1-46B3-9A1F-40D306C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5482F-4AD9-4361-928B-37291CD9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1E1D1-4394-4B10-8038-440B9589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2F773-8CF9-47ED-B130-6F85B24F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12FDF-6CE1-4096-AAA7-B276794A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B43CD-C43C-4FED-9B87-83967559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F7B57-CA5C-4585-9DFE-346B0770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7FD6-B692-43B4-9094-19F7B74E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F65FF7-14E3-4004-BD82-228453D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677F9-CB55-4384-AB88-3D23B58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F92A1-E13A-4AD3-A63E-E9935FBB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07CDE-4A14-4497-AECB-8B6CDA8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B31F0-D761-46BF-8E16-F8AF1A5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4E06E-F4DF-474E-BB62-CD721D3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BC3D5-7F64-4AEA-ACCB-FC0C9EC3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ED238-EEB0-40E5-A1D2-30CF23A6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146B2-F906-4D37-A2F9-0EE62DF3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245026-92D5-4193-B654-36F084BA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029A-5C14-4C6E-96CE-4EFB33AA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DA006-EF97-4A45-9E1B-A1378D1A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58CA2-B758-44EB-80B0-6743F17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D58FC-E1BC-41CB-A02E-94AE3D4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0118D-E9FC-45D4-98F2-94B0FF09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99DAC-8839-4B3F-9ED3-4365FE3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0AA8A-6139-4EA1-8736-9760BA54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2995F-3655-4812-A26E-3A583649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BC3F7-B70E-49F5-9586-4780A2B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E2B48-2A45-443E-A850-7414D4E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2B00D6-8FA7-4E7F-92DD-DC846EB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2753-AE8B-4577-A431-2557215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1A2DD-D69C-4E3B-97AB-DF23D744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685A8-0F88-4A0B-8DC9-7B0A895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EEE9B-21FA-4737-9E57-4048D520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DA7DA-0A23-46B2-9F69-3B1FD0A8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3F7D7-CDE9-46DC-9901-644F8A7E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CA403-CC0F-4D43-8AF0-BF27418D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951E0-A004-4B28-BCFD-EEAE4011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5BC16-05AB-4DFA-8EC8-2C1A950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7DD6D-4B0F-4FEF-B8BE-B37E8E8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64E98-DC22-4878-ABCA-84261DB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9C08-8A99-40FB-9522-7EB658A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E1997-9315-4183-AC6E-1307DF4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F4E7B-B8D6-4284-85FC-C454ADF8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06F17C-AA94-4A4F-83FE-B0E28328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90F6C9-4CAD-4E51-85BE-57CCB603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9FA06-6453-4F0C-A610-53AE6DEC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73664-0A20-4676-A8DF-786D478D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160D06-DEB3-4E42-B4EA-58B5FE66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4EBED-E0F9-4F09-934C-55B71315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15AD3-857E-4627-AED5-7FE537A9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5273C-476D-447D-B6F6-ED8A0E3D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D24-826C-45C5-A9FB-3EBE513A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DB0-C990-4021-9334-E93ABC6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5340EE-C7B4-498E-ABFB-CA0271C7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DA68A-37B0-4706-9ED2-AB02F15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CDD72-5F5E-4661-94B1-6184F006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611EEC-5625-429E-B418-0082FF8B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13A00-6B83-4067-86D6-F119BC6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81AD2-17F9-43BB-842D-8F64916C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BA7E5-DB5A-4C0F-8840-5BC7EC8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D44C35-68DA-40F5-9A10-0C739977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E0203-50B8-450D-BE0D-82E60C73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5D1BC-18C2-4508-BFEE-FB39E27D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D15-FAED-4634-993A-D554CC4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FEDA7-070A-4EB0-9FAA-2F409FB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FEE240-216E-4356-A3C4-8A1D7ED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8FA85-DDF4-49A2-9035-B2A43CE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3A4D9-7C48-442D-B22E-EA37726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1A607-F0D1-4394-AAE3-6C2D252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CA005-E863-4DAE-A756-283D5BD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3C1A1-FBAD-4EE7-A8B4-CAE4338C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A460-E86E-4F89-A87A-0AA972F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62F5-C4EF-4946-9786-94377E0E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265C-5A09-4297-9F0B-0AE4A2E2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0358-EFC1-44DB-8BE7-90A48A78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03BD-C83D-4DC4-91C2-A1E65D88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55F77-7740-4A1A-BB88-350E3B9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FF408-AB53-4A72-A371-DAA498F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0086-E611-40E9-8BFF-9B64714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D06-AEB3-40B3-BB0D-99DFB291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87A3-802A-4E4C-BB34-128E268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F532-A53F-499A-8812-66B33754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4461-2016-4AFD-81C2-5E84552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8C94-31A2-48D3-A142-57CF7394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CAF0-C66B-4B82-A045-D5BE92AC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1651-2D5F-401B-B4DC-196AAF96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3C75-F401-4CF9-9636-223A76F1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3838C-F772-4B71-8857-48B87E83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C654-2BFB-4563-80E2-E6F3725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7F646-B4D4-4C86-869B-0A9485D6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88D-F220-4A8B-B74D-3D62E2A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5940-84F7-4944-9396-035F02CE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4080-162D-4C29-948A-333D4AA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5B71-4C59-4FB0-809B-9D968E98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849F-0FC4-452D-B192-7F67002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A4CC-600A-4A01-86BE-9AA3FE10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CFC7C-9055-47DE-A5E2-1C21C7CD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85D5-6DBB-4599-B115-2A34033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CB0F-CE04-47FB-B9C6-592AEB0D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400C-6FBA-4819-B024-E18918FB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94F5C-09BA-4B0D-ADF6-CF4A6C6C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206-DD17-467B-BEF5-CB6F34B3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BF18-8CBD-40DE-AAA8-9F9F56B5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928D-0C5E-4F5D-AA2A-D191151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DC97-0936-4A7E-A203-ED35795A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C7DCE-8C93-410A-8348-D57F3FBC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EC19-B633-4B84-BC60-68C903FC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C42F5-1061-47D7-9199-8F35F08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6303-E2DF-42BB-9D89-7B5F08A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E457-49CC-4715-9E9E-182B4F8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D566-7835-40B8-88AE-02D4407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C6975-64B3-49E4-86B0-E3CF9377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A0E-BDB8-420A-94C2-F0473415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C04C1-82CF-4509-A23B-9B003E4C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0FECC-098F-4624-A3C1-10C2652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28D4-654D-4B75-B551-4173843D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83C7-D908-4BBC-B4BA-CCDFC1E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6F74-56F4-4AFD-8B8D-5E425D3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E034-48B6-4753-956C-18EB531F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13B2-7301-4914-A6EE-B115366C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1EF9B-9FA0-4D77-B415-799A49E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93D5-5C10-411B-AB0C-42874D3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492E-4E9C-4AEA-BD99-023E9A7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B48-CA54-496D-89E2-C680225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5A63-614B-4A48-A364-D4706F07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EC938-91EF-4181-8E10-B30692CF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8366-D9DA-48D3-9AD0-A2AB4B36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2F572-561D-4AE1-A87C-AAFCC92A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BB0F6-F429-46C4-8355-3D2CEC5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0ED4C-4092-4381-962B-46C412D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B0427-95A6-453C-B2CB-62D6D13C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F957F-1F42-4624-930D-CD1193EA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E44A-4C84-4431-8011-F4556F9C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8F46-4C46-40C0-A183-8364AFF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E95-AA52-4767-B611-19284D6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33C6A-50D6-4F13-9173-B9EFC97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E22B-F7C9-4BA0-822E-E29658A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A89E-9161-4D43-A0AB-07F5F0F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3B650-2145-4C71-80F0-66BFBF0E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04B8-E537-4AD2-AF30-B40A2C7E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A637-28D6-45FC-9B70-DC1DEBA4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D9C6-A0F4-4982-9A6D-007F83D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5910-29BD-4658-B0DE-50921FB4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2CF08-C214-4E4F-97E5-734B2D2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D663C-D48F-41C3-9C1D-189DA201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CAC-5084-4C16-8ECD-CA8B384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7F8B-9BCD-452D-8654-51A749DB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5F67E-DFD9-403B-9E13-ED51B25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032D-7424-43F5-BB8B-6E9557D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B7B1-1A6D-45E4-A2E5-8DF0C7ED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82963-2F31-4C12-AE15-54747F15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C88E1-C3DA-4412-8ECB-09F9B004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4E6EC-0F36-41F0-99FD-3C601855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0DA2E-FFCE-4B9A-80CE-F67EDEB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03688-3D5E-4641-B1F6-A0A96F40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0ABAD-527B-405D-AC4D-49C3DF26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F3426-E416-4D24-B0A1-64EB2388089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1CA94-52B6-4F2D-9EAF-2CA8D265068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E1C9-0E49-4BE4-86E9-8AA6376325B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6CCDD-F588-4647-98F8-7B8E3C4C40E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A8AAE-3919-4D8B-AC7F-B6775A4B0B7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EE9BA-3CD6-4043-A824-5567B8E8C2F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2BDF0-CE0D-4B10-8657-B534A81506E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D121F-251D-4E93-8BB6-BF262178323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95A22-6874-4BC2-BEBC-2AD068AE4E9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43667-E365-4825-8B31-DA3B5D9B9D6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EE582-EA3B-4EE4-8FF6-CAEDA28358F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856D9-CD62-4805-8EEF-616BEE6DBDC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49351-89AA-4C32-BAC1-0C7E274580A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93B75-EA11-420F-86FF-BAC8FA81C13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CE909-4203-46ED-8CEE-0EB774D18227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7CDBF-439A-4BDB-86B8-63CD0A136EE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162A6-B6A1-4356-9D21-FF4FB668F4B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DC948-7627-421C-84D0-1AB3E2B9CD5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2743200"/>
            <a:ext cx="6069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ТЕРМОТЕРАПИЈ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516640"/>
            <a:ext cx="61070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99640" y="75240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Циљеви </a:t>
            </a:r>
            <a:br>
              <a:rPr sz="3600"/>
            </a:b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од примене топлотне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Аналгез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Релаксација (мишићни спазам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Хиперем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већан екстензибилитет колаге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5. Убрзање метаболичких проце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71280" y="2336400"/>
            <a:ext cx="7848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1. Субакутна и хронична мишићноскелетна стања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(тендинитис, теносиновитис, бурзитис, итд.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2. Бол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3. Артритис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4. Контрактур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5. Релаксација мишић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6. Хронична инфламација (посттрауматска стања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 РА, дегенеративни артритис, ..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траиндикације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за примену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rmot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99640" y="2336400"/>
            <a:ext cx="770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Акутна траума, инфламација, хеморагија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оже да погорша акутну инфламацију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штећење циркулације (исхем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в. метаб. активности може премашити капацитет арт. васкуларизације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ремећај коагулације (нпр. хемофил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Велики ожиљци: ожиљци су аваскуларни и не могу добро да расипају топлоту: Малигнитет (повећава потенцијал за раст и хематогену дисеминацију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пште контраиндикације (когнитивни дефицит, оштећење сензибилитета, и др.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блици терм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971640" y="2133360"/>
            <a:ext cx="644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елоидотер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анг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песк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ваздух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900000" y="2336400"/>
            <a:ext cx="7344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 се обавља помоћу топлих парафинских облога и потапањем екстремитета у парафи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оред тога примена парафина се спроводи као маска код парализе н. Фациали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спреј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калуп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760"/>
            <a:ext cx="8215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је специјални вид парне коморе. Саграђена је од дрвета. Под је тако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ђ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 од дрвета. У тој просторији су смештене клупе. На најнижим клупама где је температура 6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ли на највишим клупама где је темература 90-10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Обично је боравак у сауни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0-30 мин. Након боравка у сауни узима се хладан туш.Током боравка у сауни расте температура коже и до 4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 организма до 39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Долази до профузног знојења. Понекад се излучи и 20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ml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оја. Убрзава се пулс, пада дијастолни притисак. Примењује се обично 2 пута недељно.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има снажан стимулативни ефекат на организам, повећава општи тонус и радну способност организма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РИОТЕРАП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10920" y="2336400"/>
            <a:ext cx="8064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цептори за хладноцу се називају Краузеова телашца и има их највише на лицу - око 20 на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Примена криотерапије треба да буде кратка, јер проду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на криотерапија изазива парезу крвних судова и успорење крвне струје и јавља се осећај хладноће а затим дрхтавица. Из тих разлога треба се држати по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owarschik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у следећег правил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"кратко и хладно".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цијенти третирани ледом у 90% случајева имају смањење гамма спастичности, а ефекат се одржава чак 10-12 сати по престанку процедур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ски ефек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99640" y="2336760"/>
            <a:ext cx="741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риотерапија делује аналгетски. Апликацијом леда долази до смањења надражљивости и проводљивости нервних структура. Аналгезија се може запазити код посттрауматских стања где имамо реактивно запаљење и едем. Смањење едема доводи до смањења притиска и надражаја на периферне нервне завршетк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Техника</a:t>
            </a:r>
            <a:r>
              <a:rPr b="0" lang="sr-Latn-C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пл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окал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акова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мерзиј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2-3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ин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5-6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иомасаж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убјективн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сећај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жарењ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ак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спарљиве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ryo-cuff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етод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т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д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 за примену кри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ишицни спазам након повре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веже повреде меких ткива 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ток и бол зглобова код запаље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астичност код оштећења гамма моторног система (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clerosis multiplex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водна терапија за примену кинезитерапиј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лгодистрофија у првом стадијум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Р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 Е Р А П И Ј 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692360" y="2336400"/>
            <a:ext cx="5729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грева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вође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ђе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дузима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нтра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971640" y="2336760"/>
            <a:ext cx="7416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лцерације у периферним крвним судови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артеријска оштецењ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ртеријска оштећења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II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V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дијум по 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Fonten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штећење сензибилиетт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алергиј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orbus Raynau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ња након промрз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rebuchet MS"/>
              </a:rPr>
              <a:t>ТАЧКА ТОЛЕРАНЦИЈ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чка толеранције је степен загрејаности материје који још увек не прави никакве штетне последице на организ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сув ваздух тацка толеранције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раница толеранције за воду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45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 парафин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65</a:t>
            </a:r>
            <a:r>
              <a:rPr b="0" lang="sr-R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елоид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5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ПЕФИФИЧНА ТОПЛОТ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личина топлоте измерена у калоријама, која је неопходна да се 1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g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ке супстанце загреје за 1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0 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зива се специфицна топлота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ТЕРМОТЕРАПИЈА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У УЖЕМ СМИСЛ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ласификује 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м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дубини пенетрације топл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начину трансфера 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ма дубини пенетр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ovrš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toplot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akovan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fluidoterap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IC zraci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ubok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ultrazvuk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kratkot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mikrota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РЕНОС ТОПЛОТ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71640" y="2420640"/>
            <a:ext cx="792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ду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овођење топлоте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дија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зрачење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ве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енос топлоте преко неког медијума –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 топлотно струјањ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иолошка деловања топлот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160" y="2336400"/>
            <a:ext cx="83595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Хемодинамск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Вазодилатациј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мањење хроничне инфламације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инфламацију, едем, и крварење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(егзарцебација акутних инфламаторних повреда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Неуромишићн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моторну и сензорну проводљивос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97164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фекат на зглобове и везивна ткив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мишићног тонус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већање екстензибилитета колаген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укочености зглобова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алгетско деј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ст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општени ефекат релаксације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4:52Z</dcterms:modified>
  <cp:revision>38</cp:revision>
  <dc:subject/>
  <dc:title>Balneoterapija</dc:title>
</cp:coreProperties>
</file>