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77C-3238-4094-B3DA-2E2E994D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829D-15EE-4CC0-BF60-7129D4E6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CA31-F30D-45EB-8124-F0C691DD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3D92-1053-48C1-B27F-E3C70B46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18C4-49CD-4F87-9FB3-5FDDD30C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ED31-995F-46A4-82C7-C38294C8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E4C3-BF72-4EEC-B3F7-CBC0BD38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7E54-87D1-4E9E-937A-F49A7E73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6209-C5AE-484F-9A31-F1EBF561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5640-73E0-4C32-A216-EC370AB3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DB84-FD96-4953-A2CB-77F91806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795-E5B6-48A6-A6A4-6BA37447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4026-3338-46DF-8DE0-CCBDF798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6D47-2B45-40DC-B5F5-30FF8EAA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9418-DE8D-42BC-8E77-B027EFBE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601D-0B92-4185-B45A-846355C3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DD84-3B96-43E6-BA93-5A1F3EBE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EC7EF-FDC2-41E9-92B7-200C35A1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52EF5-E981-443E-9CAB-BA49C82D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6A929-CEA3-4D23-A4AF-4D2CB6B1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862A7-853B-4CE0-BB2F-56F15FFB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971AA-D5DE-4480-BC32-6090F14C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6CB4-5C84-4305-9614-86AEE2B3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BDA74-52C0-482C-8ACB-09BBC7FA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358C0-1926-46DB-B532-D759CAA5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2E1B4-5515-41B9-A736-C051629E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26041-A7D2-49B7-B780-E72EB4F6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EAF99-E938-4291-8A54-DF4149A9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EEAEB-59F9-4EEA-9633-5666D045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2CBFE-3830-411B-845B-306BCDD5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D2D6-FED7-4C94-B3F0-16C2E947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992-ACB3-4723-8D1A-35A8C32E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3826-54BB-440E-9EB1-7DF57C53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FF34-5CA5-4A22-AD04-BB4645AB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6847-0F0E-4914-84CF-D8439F8E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DB72-390F-4E2A-AA8C-E3CC887F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930D-8D1C-46DA-B453-1F2C8C26AB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A527-2341-4B30-9879-1BC0187A2B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56C5-809F-4F40-A218-2F8C0DEF93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podloga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289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600" y="278136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ЛАСЕРО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Доц. др Катарина Парезановић-Ил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332000" y="194004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ОСНОВНЕ СТРУКОВН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332000" y="23004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СТРУКОВНА МЕДИЦИНСКА СЕСТРА-ТЕХНИЧ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                </a:t>
            </a: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 на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) техни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) медицинс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хирур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ерапијске-биостимулатив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( са малом енергиј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а коагулирајућим деј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cce6"/>
                </a:solidFill>
                <a:latin typeface="Arial"/>
              </a:rPr>
              <a:t>Хируршки ласе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24379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хирургији се користе у виду ласерског скалп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моћу кога се оперативни резови изводе безкрвно,брзо зарастају и осигуравају потпуну стерил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арочито су погодни за операције на паренхимним органима, код гнојних и малигних обољ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6560" y="990720"/>
            <a:ext cx="822024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cc"/>
                </a:solidFill>
                <a:latin typeface="Arial"/>
              </a:rPr>
              <a:t>Терапијски (биостимулативни) лас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физикалној медицини и рехабилитацији се користе ласери ниске снаге-хладни лас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e-N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асер,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r-jod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асер, полупроводнички ласери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ки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ају с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 jeд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k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aл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них д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на изл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ерапијски лaсeр (600-1100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nm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езнатно се абсорбују у води и пигментима па дубље продиру у тк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cc"/>
                </a:solidFill>
                <a:latin typeface="Arial"/>
              </a:rPr>
              <a:t>Ласери са коагулирајућим дејств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03200" y="2209320"/>
            <a:ext cx="8359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асерски зраци велике енергетске густине изазивају денатурацију беланчевина,тј.коагул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оја је позната као фотокоагулација.Ова појава се користи за лечење аблације ретине ( одлубљивање мрежњач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ористи се за заустављање крварења код дијабетичне ретинопатије као и за заустављање крварења у једњаку,желуцу и цревима-аргонски лас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За скидање тетоважа, невуса и вер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Биоло</a:t>
            </a:r>
            <a:r>
              <a:rPr b="1" lang="sr-Latn-CS" sz="3600" spc="-1" strike="noStrike">
                <a:solidFill>
                  <a:srgbClr val="ccffcc"/>
                </a:solidFill>
                <a:latin typeface="Arial"/>
              </a:rPr>
              <a:t>ш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ко дејство ласерског зра</a:t>
            </a:r>
            <a:r>
              <a:rPr b="1" lang="sr-Latn-CS" sz="3600" spc="-1" strike="noStrike">
                <a:solidFill>
                  <a:srgbClr val="ccffcc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е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0" y="190512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оплотн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јава слободних радик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отохемијски еф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јава ендотокс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отоелектр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и еф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o</a:t>
            </a: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лотни ефека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нергија ласерског зрачења се апсорбује у атомима и молекулима ткива,при чему настаје њихово кретање и трење,које даје топлотну енергију. Од ћелијских састојака најосетљивији су ферменти,њихова активност престаје најраније.Ово се дешава кад температура достигне 45 степени,на 55 степени настаје денатурација беланче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Механички ефек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ад се ласерски зраци абсорбују у ткивима долази до напрезања ткива,долази до прскања ткива.Тај притисак код неодијумског ласера је 0,64 паскала.ово је посебно наглашено код туморског тк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ffcc"/>
                </a:solidFill>
                <a:latin typeface="Arial"/>
              </a:rPr>
              <a:t>Фотохемијски ефек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Фотохемијске промене се углавном јављају на таласној дужини мањој од 500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m.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Максимум апсорпције имају беланчевине и нуклеинске кисел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Фотобиолошки одговор зависи од оптичких својстава ткива изложеног ласерском зрачењ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Стварање ендотокси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сле озрачења могу се појавити токсичне материје које називамо ендотоксини.Од њихове количине зависи и прогресивност оштећења тк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ffcc"/>
                </a:solidFill>
                <a:latin typeface="Arial"/>
              </a:rPr>
              <a:t>Фотоелектрични ефек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678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а повећањем густине енергије ласерског зрачења у озраченом ткиву се јавља поље високог електричног напона. Ово доводи до промене електричног потенцијала молекула и ћелија и поремећаја електричних карактеристика озраченог тк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cc"/>
                </a:solidFill>
                <a:latin typeface="Arial"/>
              </a:rPr>
              <a:t>Историјат лас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звој квантне електронике почиње крајем прошлог и почетком овог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j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штајн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1917. 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хипотеза о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ндукованој емисиј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Басов и Прохоров 1964.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обелову награду за физику развоја лас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Schawlow 1981.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обелову награду за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ласерску спектроскопиј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ff"/>
                </a:solidFill>
                <a:latin typeface="Arial"/>
              </a:rPr>
              <a:t>ТЕРАПИЈСКО ДЕЛОВАЊЕ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Биостимулатив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убрзава ћелијску деобу (митозу) и синтезу ДНК и РН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повећава број колагених влакана и синтезу колаг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повећава синтезу АТ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убрзава размену кроз ћелијску мембран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мења дејство ензима у базалном слоју епите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Аналгетск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стумулише “брза” бета-А влакна (ГАТЕ ЦОНТРОЛ)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стимулише продукцију бета-ендорфир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294920" y="190476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Антиинфламатор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- смањује лучење простаглан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- побољшава фагоцит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Имунолош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- супресија Т и Б лимфо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- продужено преживљавање транспла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601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e6"/>
                </a:solidFill>
                <a:latin typeface="Arial"/>
              </a:rPr>
              <a:t>Т</a:t>
            </a:r>
            <a:r>
              <a:rPr b="1" lang="en-GB" sz="4400" spc="-1" strike="noStrike">
                <a:solidFill>
                  <a:srgbClr val="cccce6"/>
                </a:solidFill>
                <a:latin typeface="Arial"/>
              </a:rPr>
              <a:t>ехника примене лас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0200" y="2819520"/>
            <a:ext cx="6107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Скенирају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15-30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Мануелни на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асерска акупун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Дозирање ласе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реквенција 1 - 10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нтиспаст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 - 60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налгет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 - 600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утроф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ко 1000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нтинфламатор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нага 5 - 10 мW акупункту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- 70 мW скенирај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реме трајања 1 - 10 минута, 30 минута максима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нергија 4Ј, 6Ј/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...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8 Ј/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максима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ffcc"/>
                </a:solidFill>
                <a:latin typeface="Arial"/>
              </a:rPr>
              <a:t>Дозир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од свежих повреда почиње се са малим дозама па се касније доза повећава као и време трајања аплик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3040" y="609120"/>
            <a:ext cx="82137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Индикације</a:t>
            </a:r>
            <a:r>
              <a:rPr b="1" lang="sr-Latn-CS" sz="4000" spc="-1" strike="noStrike">
                <a:solidFill>
                  <a:srgbClr val="ccffff"/>
                </a:solidFill>
                <a:latin typeface="Arial"/>
              </a:rPr>
              <a:t> за ласеротерапи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786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РАУМАТОЛOГИЈА И СПОРТСКА МЕДИЦIНА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исторзије, контузије, тенди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и, тендоваги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и, руптуре м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, ентезит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и ентезопатије, св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еж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 прелом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РОМЕНE НА КРВНИМ СУДОВИМА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арикси, улкус вар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осум,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Mb.Rejno...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О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Е БОЛЕСТИ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кцем, акне, фур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н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ули,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херпес симплек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х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ерпес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зостер,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нaлне фисуре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Индикације</a:t>
            </a:r>
            <a:r>
              <a:rPr b="1" lang="sr-Latn-CS" sz="4000" spc="-1" strike="noStrike">
                <a:solidFill>
                  <a:srgbClr val="ccffff"/>
                </a:solidFill>
                <a:latin typeface="Arial"/>
              </a:rPr>
              <a:t> за ласеротерапи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ИНЕКОЛОГИЈА И УР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ретрити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днексити, ендоцервицити, ерозије грли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,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маститис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ФТАЛМ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лауком, аблација ретине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НЕУР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- мигрене,парезе чак и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. facialisa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мишићне атрофије и дистроф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ЕУМАТСК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- дегенеративни,ванзглобни,запаљенски у фази ремис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СТОМАТ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- парадонтозе,стоматити, промене на слузокожи 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11280" y="16668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Контраиндикације за ласеротерапи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Pace-m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Трудно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Деца у развоју у пределу зона окошта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Малигн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Фебрилна стањ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Акутна запаљенска с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57200" y="32464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57200" y="45720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Мере за</a:t>
            </a:r>
            <a:r>
              <a:rPr b="1" lang="sr-Latn-CS" sz="4400" spc="-1" strike="noStrike">
                <a:solidFill>
                  <a:srgbClr val="ccffff"/>
                </a:solidFill>
                <a:latin typeface="Arial"/>
              </a:rPr>
              <a:t>ш</a:t>
            </a: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тите од лас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е гледати  у ласерски сн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аочаре са посебним филт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ffff"/>
                </a:solidFill>
                <a:latin typeface="Arial"/>
              </a:rPr>
              <a:t>Дефиниција</a:t>
            </a: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 ласерске светл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L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ight 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plification by </a:t>
            </a:r>
            <a:br>
              <a:rPr sz="2800"/>
            </a:b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timulated 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ission of 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Извор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ма ус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мер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г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но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к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херентне монохроматске светл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понтана и стимулисана емисија зрач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0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cc"/>
                </a:solidFill>
                <a:latin typeface="Arial"/>
              </a:rPr>
              <a:t>Особине ласерске свет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373120"/>
            <a:ext cx="38862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Arial"/>
              </a:rPr>
              <a:t>кохерентна </a:t>
            </a:r>
            <a:br>
              <a:rPr sz="2400"/>
            </a:br>
            <a:r>
              <a:rPr b="1" lang="sr-Latn-CS" sz="2400" spc="-1" strike="noStrike">
                <a:solidFill>
                  <a:srgbClr val="ccffcc"/>
                </a:solidFill>
                <a:latin typeface="Arial"/>
              </a:rPr>
              <a:t>(један правац простирањ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Arial"/>
              </a:rPr>
              <a:t>монохромати</a:t>
            </a:r>
            <a:r>
              <a:rPr b="1" lang="sr-Latn-CS" sz="2400" spc="-1" strike="noStrike">
                <a:solidFill>
                  <a:srgbClr val="ccffcc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ccffcc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ccffcc"/>
                </a:solidFill>
                <a:latin typeface="Arial"/>
              </a:rPr>
              <a:t> </a:t>
            </a:r>
            <a:br>
              <a:rPr sz="2400"/>
            </a:br>
            <a:r>
              <a:rPr b="1" lang="sr-Latn-CS" sz="2400" spc="-1" strike="noStrike">
                <a:solidFill>
                  <a:srgbClr val="ccffcc"/>
                </a:solidFill>
                <a:latin typeface="Arial"/>
              </a:rPr>
              <a:t>(једна бо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Arial"/>
              </a:rPr>
              <a:t>усмер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4648320" y="2373480"/>
            <a:ext cx="4038480" cy="3136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Основни елементи лас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504880"/>
            <a:ext cx="8001000" cy="27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68000"/>
          </a:bodyPr>
          <a:p>
            <a:pPr marL="2332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Активно сред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умно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ава фотоне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2400"/>
            </a:b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Више од половине честица су на вишем нив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Ласерска пум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извор енергије за побу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ђ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и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Резонато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роду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ава пут емитованих фотона и њихово дејство на активно средство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Чине га два паралелна огледала између којих је активно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истем за хлађ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                           </a:t>
            </a: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80720" y="19807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ема таласној дужи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) са видљивом светлошћу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д 400-780м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б) са невидљивом светлошћу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д 780-1500н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               </a:t>
            </a: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ема извору побу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) опт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) са коришћењем самостално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аж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) електројонизаци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г) топлот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) хемиј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ђ) рекомбинаци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На основу активног материјал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а) чврсте (рубински, неодијумск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б) теч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ц) гас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д) молекулар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е) јонс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ф) електројонизацио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г) гасодинамич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х) хемијс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ј) плазме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ема начину емитовањ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) континуи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б) импулсн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09:00:25Z</dcterms:created>
  <dc:creator>WIN98SE</dc:creator>
  <dc:description/>
  <dc:language>en-US</dc:language>
  <cp:lastModifiedBy>katarinaparezanovicilic@gmail.com</cp:lastModifiedBy>
  <dcterms:modified xsi:type="dcterms:W3CDTF">2020-09-26T16:53:27Z</dcterms:modified>
  <cp:revision>56</cp:revision>
  <dc:subject/>
  <dc:title>LASEROTERAPIJA </dc:title>
</cp:coreProperties>
</file>